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F486-E8BF-4248-BE18-46038E8D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0427-D452-46EE-99C9-8EDF9855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D908-7E3D-4F16-B4B2-860F3322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3048-5ED5-4768-B0D4-8C874069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17F3-98D4-462B-B713-DC4AAB9D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0E40-E481-4600-81C3-DEFCEC70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291-8C69-4B75-9D97-3F2AEF86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56B-9B37-4770-ABB5-723DD7ED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D1EF-EA17-49D8-9EA9-3FFBD779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C154-DD63-4278-9AA9-D07DEF1F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A37-FB4F-4D7D-A6AB-B4EA23A9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0464-00C6-4C4A-A8EA-E62D6024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7784-2917-4C28-B39C-0FC7EC161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a89fd"/>
                </a:solidFill>
                <a:latin typeface="Marker Felt"/>
              </a:rPr>
              <a:t>aNnA’s AwEsOmE pOwErPoInT 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89fd"/>
                </a:solidFill>
                <a:latin typeface="Marker Felt"/>
              </a:rPr>
              <a:t>POSSESSIVE</a:t>
            </a:r>
            <a:br>
              <a:rPr sz="3200"/>
            </a:br>
            <a:r>
              <a:rPr b="0" lang="en-US" sz="3200" spc="-1" strike="noStrike">
                <a:solidFill>
                  <a:srgbClr val="1a89fd"/>
                </a:solidFill>
                <a:latin typeface="Marker Felt"/>
              </a:rPr>
              <a:t>APOSTROP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iano of Anna = Anna’s p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Find the owner                          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Add the apostrophe                 Ann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dd the ‘s’ if there isn’t one          Anna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2514600"/>
            <a:ext cx="2667240" cy="228600"/>
          </a:xfrm>
          <a:prstGeom prst="rightArrow">
            <a:avLst>
              <a:gd name="adj1" fmla="val 50000"/>
              <a:gd name="adj2" fmla="val 29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3505320"/>
            <a:ext cx="1828800" cy="533160"/>
          </a:xfrm>
          <a:prstGeom prst="rightArrow">
            <a:avLst>
              <a:gd name="adj1" fmla="val 50000"/>
              <a:gd name="adj2" fmla="val 857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480060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laptop of Olivia = Olivia’s lap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Find the owner               Oli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Add the apostrophe           Olivi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dd the ‘s’ if there isn’t one        Olivia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2057400"/>
            <a:ext cx="1447560" cy="380880"/>
          </a:xfrm>
          <a:prstGeom prst="rightArrow">
            <a:avLst>
              <a:gd name="adj1" fmla="val 50000"/>
              <a:gd name="adj2" fmla="val 950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327672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44956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dog of Sean = Seans do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80"/>
                </a:solidFill>
                <a:latin typeface="Arial"/>
              </a:rPr>
              <a:t>Find the owner                             S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Add the apostrophe                    S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dd the ‘s’ if there isn’t one          Se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057400"/>
            <a:ext cx="2743200" cy="533520"/>
          </a:xfrm>
          <a:prstGeom prst="rightArrow">
            <a:avLst>
              <a:gd name="adj1" fmla="val 50000"/>
              <a:gd name="adj2" fmla="val 1285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31240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72200" y="4343400"/>
            <a:ext cx="1066680" cy="533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Write the base words                     can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Make a space                                   can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Take out the letters that you                 can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on’t n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place the missing let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th and apostrophe                          ca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743200"/>
            <a:ext cx="2666880" cy="533520"/>
          </a:xfrm>
          <a:prstGeom prst="rightArrow">
            <a:avLst>
              <a:gd name="adj1" fmla="val 50000"/>
              <a:gd name="adj2" fmla="val 1249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98108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505320"/>
            <a:ext cx="1067040" cy="5331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5181480"/>
            <a:ext cx="1066680" cy="533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Write the base words                     don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Make a space                                   do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Take out the letters that you               do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on’t n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place the missing let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th and apostrophe                            do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743200"/>
            <a:ext cx="2666880" cy="533520"/>
          </a:xfrm>
          <a:prstGeom prst="rightArrow">
            <a:avLst>
              <a:gd name="adj1" fmla="val 50000"/>
              <a:gd name="adj2" fmla="val 1249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198108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3505320"/>
            <a:ext cx="1067040" cy="5331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5181480"/>
            <a:ext cx="1066680" cy="533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Write the base words                       could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Make a space could not                   could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Take out the letters that you               could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on’t n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place the missing let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th and apostrophe                        could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2743200"/>
            <a:ext cx="2666880" cy="533520"/>
          </a:xfrm>
          <a:prstGeom prst="rightArrow">
            <a:avLst>
              <a:gd name="adj1" fmla="val 50000"/>
              <a:gd name="adj2" fmla="val 1249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198108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3505320"/>
            <a:ext cx="1067040" cy="5331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5181480"/>
            <a:ext cx="1066680" cy="533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4:02:48Z</dcterms:created>
  <dc:creator>502</dc:creator>
  <dc:description/>
  <dc:language>en-US</dc:language>
  <cp:lastModifiedBy>502</cp:lastModifiedBy>
  <dcterms:modified xsi:type="dcterms:W3CDTF">2009-08-12T04:23:29Z</dcterms:modified>
  <cp:revision>7</cp:revision>
  <dc:subject/>
  <dc:title>aNnA’s AwEsOmE pOwErPoInT oN…</dc:title>
</cp:coreProperties>
</file>